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F465-3D99-4308-B0A3-A6F28BE30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: James Milton, University of Wales Swans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EB4D-E6BC-4317-835A-006A65A70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007-419A-461A-8FCF-1AE23FFB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E24-529C-422A-A23C-9191C095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55A-77DB-4A06-B69A-0D5F529C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499-DF58-4017-BB3E-64C3252A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CFB2-9223-41CB-B2CA-0D9D4758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12AB-F66B-4639-9A18-DE57E9D0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1E53-8614-4F34-8634-C3A39457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8030-8922-43E1-8E54-3F14EEA1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EE75-9CE3-415D-B0E2-0CE5768C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13FD-5110-4E43-86B4-565BA4A9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9374-D435-425D-8BD8-05EA575A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490-A608-4434-B1A5-FC0E1593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0D2A-33CE-4AED-A7A9-1453A236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5C90-0591-4B39-8344-C0FA30E8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1A68-8F57-4768-BBE3-A2EAC30F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8AE7-B811-4801-9AD8-7E14A1B7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1838-55A5-4F74-8A72-2D7EAD23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19C-5E55-4613-AB88-9E376E62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3CC-B0F7-4000-A76E-0782DD24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FBE-07BB-40A9-AB3E-D61D577A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48C-0A06-4AE6-935A-55A9C714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E9A-E5DA-4579-B8E3-27B10F65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8F4-6ABB-4970-95BE-7E4ACE34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B65-D4AD-4DDF-B159-EDAAE8C3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9BF6-74A3-4C3D-AF91-A38FD78DEE51}" type="slidenum">
              <a:rPr b="0" lang="en-US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3878-9B89-4FFE-89D5-0BD66A90585F}" type="slidenum">
              <a:rPr b="0" lang="en-GB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ottingham.ac.uk/~alzsh3/acvocab/wordlists.ht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cademicvocabularyexercises.com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ditthis.info/thebnl/Main_Page#The_lists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LEXIS – Focus on Vocabulary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US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In what patterns does the word occur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In what patterns must we use this word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words or types of words occur with this one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words or types of words must we use with this one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ere, when, and how often would we expect to meet this word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ere, when, and how often can we use this word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HOOSING VOCABULARY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FREQUENCY LIS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CORPOR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GENERAL SERVICE LIS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Century Schoolbook"/>
                <a:hlinkClick r:id="rId1"/>
              </a:rPr>
              <a:t>http://www.nottingham.ac.uk/~alzsh3/acvocab/wordlists.ht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ACADEMIC WORD LIS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Century Schoolbook"/>
                <a:hlinkClick r:id="rId1"/>
              </a:rPr>
              <a:t>http://www.academicvocabularyexercises.com/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BNL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Century Schoolbook"/>
                <a:hlinkClick r:id="rId1"/>
              </a:rPr>
              <a:t>http://editthis.info/thebnl/Main_Page#The_lis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ELF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entury Schoolbook"/>
              </a:rPr>
              <a:t>“</a:t>
            </a:r>
            <a:r>
              <a:rPr b="0" lang="en-US" sz="3000" spc="-1" strike="noStrike">
                <a:solidFill>
                  <a:srgbClr val="898989"/>
                </a:solidFill>
                <a:latin typeface="Century Schoolbook"/>
              </a:rPr>
              <a:t>Keyed to CEFR”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entury Schoolbook"/>
              </a:rPr>
              <a:t>http://tvo.wikispaces.com/file/view/20386024-Common-English-Lexical-Framework.pdf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VOCABULARY PROFILER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http://www.lextutor.ca/vp/eng/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ANOTHER PROFILER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http://ec.hku.hk/vocabulary/profile.ht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ORPUS LINGUISTI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(“corpora” is the plural of “corpus”)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http://www.collins.co.uk/Corpus/CorpusSearch.aspx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http://www.natcorp.ox.ac.uk/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http://www.americancorpus.org/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VERY USER FRIENDLY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http://193.133.140.102/JustTheWord/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THE LEXICAL APPROACH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Michael Lewis (1993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at constitutes a word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elp (noun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elp (verb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ORD FAMILI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elp, help, helps, helped, helper, helpful, helpless, helplessly, unhelpfu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Schoolbook"/>
              </a:rPr>
              <a:t>L1 vocabulary growth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Schoolbook"/>
              </a:rPr>
              <a:t>Very young learners learn 50 – 350 words in the holophrastic phas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Schoolbook"/>
              </a:rPr>
              <a:t>At age 3 – 500-1000 words in active vocabulary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Schoolbook"/>
              </a:rPr>
              <a:t>Age 6 – 2500-5000 lemma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Schoolbook"/>
              </a:rPr>
              <a:t>Learners add 1000-3000 words per year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Schoolbook"/>
              </a:rPr>
              <a:t>University entrants in UK - c.9,000 word famili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Schoolbook"/>
              </a:rPr>
              <a:t>Graduate students in UK – c.13,000 word famili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Schoolbook"/>
              </a:rPr>
              <a:t>Using this information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identifying readiness for higher stud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University entr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bility to read books in a canon or textbook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Shrek – 6000 words 95% coverag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2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 Century English fiction – 8-9000 word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Textbook – 10-12000+ words for 95% coverag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CEF and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vocabulary level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26920" y="1700280"/>
          <a:ext cx="7620120" cy="4411440"/>
        </p:xfrm>
        <a:graphic>
          <a:graphicData uri="http://schemas.openxmlformats.org/drawingml/2006/table">
            <a:tbl>
              <a:tblPr/>
              <a:tblGrid>
                <a:gridCol w="2048040"/>
                <a:gridCol w="3057480"/>
                <a:gridCol w="251460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CEF lev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Cambridge ESO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Vocab size/5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ers et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5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 - 25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0 - 3250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0 - 37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0 - 45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0 - 5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at does it mean to “know” a word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Title 1"/>
          <p:cNvSpPr/>
          <p:nvPr/>
        </p:nvSpPr>
        <p:spPr>
          <a:xfrm>
            <a:off x="53352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FOR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does the word sound like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How is the word pronounced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does the word look like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How is the word written and spelled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parts are recognizable in the word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word parts are needed to express the meaning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meaning does this word form signal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word form can be used to express this meaning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is included in the concept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items can the concept refer to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other words does this make us think of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other words could we use instead of this one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9:12:01Z</dcterms:created>
  <dc:creator>PhilipFranklin</dc:creator>
  <dc:description/>
  <dc:language>en-US</dc:language>
  <cp:lastModifiedBy>PhilipFranklin</cp:lastModifiedBy>
  <dcterms:modified xsi:type="dcterms:W3CDTF">2010-03-29T12:24:18Z</dcterms:modified>
  <cp:revision>24</cp:revision>
  <dc:subject/>
  <dc:title>Slide 1</dc:title>
</cp:coreProperties>
</file>